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6.png" ContentType="image/png"/>
  <Override PartName="/ppt/media/image18.png" ContentType="image/png"/>
  <Override PartName="/ppt/media/image34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6664-98F3-4EA6-B3AC-0E1A64F3E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96E7-D7AE-4CB5-B5DA-3AAE81A71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organic molecules to complex organic molecules and became the building blocks of the first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et up an experiment to refute spontaneous generation for microscopic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FF2-5431-43C4-B7F0-3780ECE6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8F6-F661-4D71-8A4C-CF4C3F52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A11-A801-41B8-A067-54E596D1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7C2-A121-40E1-93F8-1ADA292A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823-E118-472C-BEA6-6EE54A1C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6AB-4C5F-430D-B1EF-E95469F8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26F-CDCF-4BAB-8941-1B44BBE1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42D-878A-45E6-9F92-C9F860A2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AF3-765A-432B-B725-BC25F973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2BA-D626-43B8-8F1E-7B4E233C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6BC-1097-43A8-B123-08E3ED68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316-9101-4D02-B2F3-07F66E85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50F6-6881-4DC1-876D-93081C78E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rkive.org/japanese-macaque/macaca-fuscata/video-08c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www.arkive.org/japanese-macaque/macaca-fuscata/video-00.html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hyperlink" Target="http://www.arkive.org/japanese-macaque/macaca-fuscata/video-03.html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arkive.org/japanese-macaque/macaca-fuscata/video-11.html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bcs.whfreeman.com/thelifewire/content/chp03/0302003.html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(Intro to Biology), Part 3 Notes – The Scientific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underseaaug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owoct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B00072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orsec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arkthoughtnov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milingeinstein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spyingsept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ubmarine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1_01_36m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ovary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n organized way of using evidence to learn about the natur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body of knowledge scientists have built up over the years using th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0007342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1: Scientists Ask Questions/State 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base their questions up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fter information has been collect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ed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y is this an important step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cientificmethod1"/>
          <p:cNvPicPr/>
          <p:nvPr/>
        </p:nvPicPr>
        <p:blipFill>
          <a:blip r:embed="rId1"/>
          <a:stretch/>
        </p:blipFill>
        <p:spPr>
          <a:xfrm>
            <a:off x="4786200" y="1219320"/>
            <a:ext cx="4357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1: Scientists Ask Questions/ State 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questions can we ask about the behavior that we observed with the Japanese Macaq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apmac2"/>
          <p:cNvPicPr/>
          <p:nvPr/>
        </p:nvPicPr>
        <p:blipFill>
          <a:blip r:embed="rId1"/>
          <a:stretch/>
        </p:blipFill>
        <p:spPr>
          <a:xfrm>
            <a:off x="1371600" y="2496960"/>
            <a:ext cx="647712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2: Scientists Form a Hypothes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ypothesis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able explanation of a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n Wiley hypothesized that the use of isometric exercise to raise blood pressure during maneuvers might increase tolerance to g-force and prevent black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f16desert"/>
          <p:cNvPicPr/>
          <p:nvPr/>
        </p:nvPicPr>
        <p:blipFill>
          <a:blip r:embed="rId1"/>
          <a:stretch/>
        </p:blipFill>
        <p:spPr>
          <a:xfrm>
            <a:off x="4724280" y="1295280"/>
            <a:ext cx="4419720" cy="3529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4876920" y="51814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w did he make this hypothes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2: Scientists Form a 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pothesis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stable explanation of a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ory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tested explanation that unifies a broad range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2: Scientists Form a 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t’s form a hypothesis about why our Japanese Macaques are exhibiting this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ke sure that this is a testable hypothe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3886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rkive.org/japanese-macaque/macaca-fuscata/video-08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33920" y="1142640"/>
            <a:ext cx="5410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riment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vestigation of a phenomenon in a controlled setting to test a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t’s look at a new experi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ientist observes that grass does not grow in a certain part of a la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ypothesis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ss died because there was no wa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hinchBugDamage"/>
          <p:cNvPicPr/>
          <p:nvPr/>
        </p:nvPicPr>
        <p:blipFill>
          <a:blip r:embed="rId1"/>
          <a:stretch/>
        </p:blipFill>
        <p:spPr>
          <a:xfrm>
            <a:off x="0" y="167652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rol Group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used for compari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ot of gras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extra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rimental Group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roup exposed to the variable that is being tes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ot of gras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extra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riable =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factor that can affect the outcome of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ate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light, disease, etc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ependent Variable =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ipulated variable; what is changed by the experim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mount of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pendent Variable =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 that is measured; the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rass grow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m"/>
          <p:cNvPicPr/>
          <p:nvPr/>
        </p:nvPicPr>
        <p:blipFill>
          <a:blip r:embed="rId1"/>
          <a:stretch/>
        </p:blipFill>
        <p:spPr>
          <a:xfrm>
            <a:off x="4572000" y="1295280"/>
            <a:ext cx="4572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ant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/variable that doesn’t change during an experi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are some constants in our grass experimen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grass-growth-at-10-days"/>
          <p:cNvPicPr/>
          <p:nvPr/>
        </p:nvPicPr>
        <p:blipFill>
          <a:blip r:embed="rId1"/>
          <a:stretch/>
        </p:blipFill>
        <p:spPr>
          <a:xfrm>
            <a:off x="1828800" y="33526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cienc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ti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accept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ai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oes pe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er review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by which the procedures used during an experiment and the results are evaluated by other scienti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Uses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 (Meter, gram, liter, 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4: Perform an Experiment/Gather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a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gained from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ntitative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erical data (measurements of time, temperature, length, mass, area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 experiment = Area of healthy grass vs. area of dead gr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litative Data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s of what our senses det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 experiment = More healthy grass vs. less dead gr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5: Analyze 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hat scientists 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y hypothesis been supported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more data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ifferent procedures needed?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work i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alyze dat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a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good tools for data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graphs"/>
          <p:cNvPicPr/>
          <p:nvPr/>
        </p:nvPicPr>
        <p:blipFill>
          <a:blip r:embed="rId1"/>
          <a:stretch/>
        </p:blipFill>
        <p:spPr>
          <a:xfrm>
            <a:off x="4952880" y="1600200"/>
            <a:ext cx="4191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6: Report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report their conclusions and findings in scientific journals (peer-reviewed journ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examples can you think of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cover_nature"/>
          <p:cNvPicPr/>
          <p:nvPr/>
        </p:nvPicPr>
        <p:blipFill>
          <a:blip r:embed="rId1"/>
          <a:stretch/>
        </p:blipFill>
        <p:spPr>
          <a:xfrm>
            <a:off x="0" y="2819520"/>
            <a:ext cx="2895480" cy="403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ages"/>
          <p:cNvPicPr/>
          <p:nvPr/>
        </p:nvPicPr>
        <p:blipFill>
          <a:blip r:embed="rId2"/>
          <a:stretch/>
        </p:blipFill>
        <p:spPr>
          <a:xfrm>
            <a:off x="3048120" y="2819520"/>
            <a:ext cx="298584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theLancetHealth"/>
          <p:cNvPicPr/>
          <p:nvPr/>
        </p:nvPicPr>
        <p:blipFill>
          <a:blip r:embed="rId3"/>
          <a:stretch/>
        </p:blipFill>
        <p:spPr>
          <a:xfrm>
            <a:off x="6138720" y="2819520"/>
            <a:ext cx="3005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6: Report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3962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ma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fi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iginal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ro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ic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further research is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other experiments could we do to test why the grass is not health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scientific_method"/>
          <p:cNvPicPr/>
          <p:nvPr/>
        </p:nvPicPr>
        <p:blipFill>
          <a:blip r:embed="rId1"/>
          <a:stretch/>
        </p:blipFill>
        <p:spPr>
          <a:xfrm>
            <a:off x="3876840" y="838080"/>
            <a:ext cx="5267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 for fun!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ol behaviors exhibited by Japanese Maca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Japanese+Macaque+Monkeys+Relax+Hot+Springs+JLoDCv8qWdWl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916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Japanese+Macaques+Bathe+Hot+Springs+N0VHA8PxkQJl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886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33520" y="58672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rkive.org/japanese-macaque/macaca-fuscata/video-00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build snowballs for fu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6a00d8341c630a53ef012876d15483970c-600wi"/>
          <p:cNvPicPr/>
          <p:nvPr/>
        </p:nvPicPr>
        <p:blipFill>
          <a:blip r:embed="rId1"/>
          <a:stretch/>
        </p:blipFill>
        <p:spPr>
          <a:xfrm>
            <a:off x="0" y="1371600"/>
            <a:ext cx="5486400" cy="426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1246239"/>
          <p:cNvPicPr/>
          <p:nvPr/>
        </p:nvPicPr>
        <p:blipFill>
          <a:blip r:embed="rId2"/>
          <a:stretch/>
        </p:blipFill>
        <p:spPr>
          <a:xfrm>
            <a:off x="5486400" y="1676520"/>
            <a:ext cx="3657600" cy="3484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143000" y="5867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rkive.org/japanese-macaque/macaca-fuscata/video-03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groom other anima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25909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rkive.org/japanese-macaque/macaca-fuscata/video-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Historical Example of the Scientific Method: Spontaneous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pontaneous Generation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eory that life can arise from nonliving ma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iogenesis Generation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eory that living things come only from other living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are these two theories differen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sco Redi – Proposed Biogenesis Generation, Disproved Spontaneous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maggots"/>
          <p:cNvPicPr/>
          <p:nvPr/>
        </p:nvPicPr>
        <p:blipFill>
          <a:blip r:embed="rId1"/>
          <a:stretch/>
        </p:blipFill>
        <p:spPr>
          <a:xfrm>
            <a:off x="1143000" y="1752480"/>
            <a:ext cx="6553080" cy="4546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8088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w would the presence of maggots be explained by spontaneous gener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uis Pasteur – Disproved Spontaneous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800600" y="580392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is Pasteur’s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cs.whfreeman.com/thelifewire/content/chp03/0302003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asteurs-experiment"/>
          <p:cNvPicPr/>
          <p:nvPr/>
        </p:nvPicPr>
        <p:blipFill>
          <a:blip r:embed="rId2"/>
          <a:stretch/>
        </p:blipFill>
        <p:spPr>
          <a:xfrm>
            <a:off x="1219320" y="1523880"/>
            <a:ext cx="67053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ce is Always Chang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from Astr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at HOT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414680" y="1371600"/>
            <a:ext cx="43833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rnicus and his heliocentr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41164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657600" cy="2751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451160" y="53341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Geocentr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94360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96000" y="57913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Heliocentr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and Human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science to inform decisions about health care, environmental poli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science’s major discoveries have been considered controversial b/c they call into question certain belief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eth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loning, stem cell research,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124080" y="4114800"/>
            <a:ext cx="27147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make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6248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observations can you make about this image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399635aa"/>
          <p:cNvPicPr/>
          <p:nvPr/>
        </p:nvPicPr>
        <p:blipFill>
          <a:blip r:embed="rId1"/>
          <a:stretch/>
        </p:blipFill>
        <p:spPr>
          <a:xfrm>
            <a:off x="609480" y="914400"/>
            <a:ext cx="78487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vs. In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bservation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rect method of gathering information in an orderly 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information from the five s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ference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at you know with what you have learned and beginning the process of making logical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t’s practice making observations with some new imag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airy-hea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7:31:37Z</dcterms:created>
  <dc:creator>Beth</dc:creator>
  <dc:description/>
  <dc:language>en-US</dc:language>
  <cp:lastModifiedBy>Windows User</cp:lastModifiedBy>
  <dcterms:modified xsi:type="dcterms:W3CDTF">2014-08-22T16:27:25Z</dcterms:modified>
  <cp:revision>16</cp:revision>
  <dc:subject/>
  <dc:title>The Characteristics of Life</dc:title>
</cp:coreProperties>
</file>